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F5BB-0A60-4850-84D6-CF639C94A6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017-87FF-4328-AD98-27F35E7D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906-C3D9-4E8E-B98F-114127B1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B84-14CD-48B1-A9FD-D2CFADCD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D7B-4E77-4690-9B9E-F33A9104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4EC-11A8-4A97-8BEF-058F353C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70D-F614-4EDD-88C7-0B87BAD2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A12-3FF1-40BE-A5FE-B2ECC14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402-D82A-45CA-A2B4-B45F383A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6C7-F6EA-4D1C-90B7-C539DC06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7A8-6129-4399-B373-68DA78E5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F05-81D6-4FBB-A933-036261B1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6C3-9E8C-4976-A2B0-F74CC33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B437-493F-4525-B51A-E710A9C10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97240" y="380880"/>
            <a:ext cx="2548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792600" y="2211480"/>
            <a:ext cx="1557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33920" y="4040280"/>
            <a:ext cx="2547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514600" y="2438280"/>
                <a:ext cx="412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Text Box 5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405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19280" y="3247920"/>
                <a:ext cx="41054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minds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set contain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514600" y="3247920"/>
                <a:ext cx="40622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514600" y="3247920"/>
                <a:ext cx="40194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2514600" y="3276720"/>
                <a:ext cx="416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ymbol that looks like 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r a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ticking its tongue ou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s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longs to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82920" y="3276720"/>
                <a:ext cx="4125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575080" y="3400560"/>
                <a:ext cx="4359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0" y="2073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3817800" y="3743280"/>
                <a:ext cx="2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67652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972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065400" y="3789360"/>
                <a:ext cx="57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5595840" y="3611520"/>
                <a:ext cx="830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4114800" y="3768840"/>
                <a:ext cx="1298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873600" y="3600360"/>
                <a:ext cx="153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3270240" y="2558880"/>
                <a:ext cx="205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put 11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as 1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uld not ge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282840" y="2362320"/>
                <a:ext cx="257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ting some number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o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359160" y="236232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2897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ongs to 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2433600" y="1649520"/>
                <a:ext cx="4276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071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0" y="3747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586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ween –3 and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0080" y="2133720"/>
                <a:ext cx="246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638360" y="5092560"/>
                <a:ext cx="604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6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0" y="47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any real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happen 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6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3416400" y="5105520"/>
                <a:ext cx="2311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505320" y="298440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0" y="4559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uld never be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457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"/>
          <p:cNvSpPr/>
          <p:nvPr/>
        </p:nvSpPr>
        <p:spPr>
          <a:xfrm>
            <a:off x="0" y="4006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be 0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o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05320" y="2362320"/>
                <a:ext cx="2133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0" y="4003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3365640" y="5410080"/>
                <a:ext cx="2412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762120" y="3625920"/>
            <a:ext cx="9144000" cy="2288160"/>
            <a:chOff x="762120" y="3625920"/>
            <a:chExt cx="9144000" cy="2288160"/>
          </a:xfrm>
        </p:grpSpPr>
        <p:sp>
          <p:nvSpPr>
            <p:cNvPr id="201" name="Text Box 8"/>
            <p:cNvSpPr/>
            <p:nvPr/>
          </p:nvSpPr>
          <p:spPr>
            <a:xfrm>
              <a:off x="762120" y="362592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ule 2:  You can’t take th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895480" y="4357800"/>
              <a:ext cx="6248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quare root of a            negative number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298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48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638520" y="3778200"/>
                <a:ext cx="186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9"/>
          <p:cNvSpPr/>
          <p:nvPr/>
        </p:nvSpPr>
        <p:spPr>
          <a:xfrm>
            <a:off x="0" y="451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708360" y="14479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0" y="373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4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3733920" y="1447920"/>
                <a:ext cx="195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Text Box 8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–16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2863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708360" y="21337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695760" y="213372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Text Box 7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0" y="144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1682640" y="609480"/>
                <a:ext cx="577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3733920" y="5562720"/>
                <a:ext cx="172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3708360" y="297180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384720" y="4648320"/>
                <a:ext cx="2323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57200" y="1523880"/>
                <a:ext cx="29844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7200" y="3276720"/>
                <a:ext cx="3619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19040" y="4178160"/>
                <a:ext cx="3467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457200" y="4965840"/>
                <a:ext cx="365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0948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143000" y="1778040"/>
                <a:ext cx="3505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098720" y="2819520"/>
                <a:ext cx="3377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095480" y="4711680"/>
                <a:ext cx="3378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101600" y="3797280"/>
                <a:ext cx="3556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0" y="1644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4373640" y="3416400"/>
                <a:ext cx="190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362480" y="3416400"/>
                <a:ext cx="1930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4373640" y="3429000"/>
                <a:ext cx="2730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168720" y="36068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464000" y="3416400"/>
                <a:ext cx="736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438280" y="2057400"/>
                <a:ext cx="2679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ll have the function         make sen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122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uld have the set of numbers we call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he set                   that contains all the                    input values                                   for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0" y="1720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28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327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11:46Z</dcterms:created>
  <dc:creator>Bob Greer</dc:creator>
  <dc:description/>
  <dc:language>en-US</dc:language>
  <cp:lastModifiedBy>LEGION</cp:lastModifiedBy>
  <dcterms:modified xsi:type="dcterms:W3CDTF">2017-07-06T06:33:07Z</dcterms:modified>
  <cp:revision>4</cp:revision>
  <dc:subject/>
  <dc:title>PowerPoint Presentation</dc:title>
</cp:coreProperties>
</file>